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C9F-7C10-49C0-9E10-9FA11EC0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C80-D29C-4D28-9A06-D0B57B7B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D09-A21D-4426-A473-455AFF33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8A8-891B-4739-BD1B-5516F20F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226-A022-4D15-B319-C31FA5ED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B8A-89FF-41C1-8758-EF00DB38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73C-8E9D-4D7E-AD74-E0790A20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BFA-3CFD-4A7A-B19C-04CF3FFA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93E-6B66-4FCB-BF15-C4056471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BCA-3C5B-4F43-A944-0C5EA71E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9B3-2CB6-4ECE-9A68-D0B936B3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936-D354-4011-B463-250454A4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F2E6-0A1C-4BD4-ACE5-3B298D313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mes in poetry are the same as themes in short stories, just said in a way which is often less obvi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etry has many popular the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 s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identify the the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being rep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od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motions do you think the author wanted you to f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od can generally be summarized with an ad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st some typical moods you find in poe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ic and 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usic does not have words, but is still considered poe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poetry is something tha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okes emotion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the relationship between music and poe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guess the theme of this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you love me, I know you c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hout whenever, and I'll be the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my love, you are my hea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will never, ever, ever be apart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e an item? Girl, quit playin'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We're just friends," what are you sayin'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id "there's another," and looked right in my ey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first love broke my heart for the first tim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 was like baby, baby, baby, o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baby, baby, baby, 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baby, baby, baby, o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ought you'd always be mine, m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, baby, baby, o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baby, baby, baby, 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baby, baby, baby, o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ought you'd always be mine, m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, I would have done whatev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 just can't believe we're here toge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 wanna play it cool, but I'm losin'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ll buy you anything, I'll buy you any ring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'm in pieces, baby fix 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just shake me 'til you wake me from this bad drea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m goin' down, down, down, d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 just can't believe my first love won't be a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 link to the music video of this poem…maybe this will help you understand the them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v.youku.com/v_show/id_XMzU0NjczMjg0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s the theme of this amazing s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s the overall m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clues give you the idea about this song’s the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ekend Assign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d your favorite song – any song, English or Chinese; if it’s Chinese you must provide the translation ( use today’s class to locate and identify the song of your cho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a response to literature: provide evidence to identify the theme of your poetry/song.  150-300 words.  /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5:04:08Z</dcterms:created>
  <dc:creator>nmt</dc:creator>
  <dc:description/>
  <dc:language>en-US</dc:language>
  <cp:lastModifiedBy>nmt</cp:lastModifiedBy>
  <dcterms:modified xsi:type="dcterms:W3CDTF">2012-03-12T06:07:55Z</dcterms:modified>
  <cp:revision>7</cp:revision>
  <dc:subject/>
  <dc:title>Poetry</dc:title>
</cp:coreProperties>
</file>